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30F-CD3C-4769-8119-0690CCA47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A9CF-29FD-43B0-9AC8-69F299EC8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5EF-1A6E-4580-A3E6-6C175F61F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C56E-B414-4D23-86AF-B9F7EA547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E67-1385-425C-9387-7FC120C58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2E1-628A-41DB-8504-E5B10B3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BA1-25C7-4FD1-9BA3-CED7455F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686-775D-4852-9F3C-5AEE0D14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A88-2191-4430-8470-D9CF8AF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7AF-40A0-4120-8919-49F6126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AFC-8AC7-4448-86C0-70E2D19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B4B-CBF8-48A6-AB14-0A2B26C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AE1-ACE5-49DE-BE7D-06B4BC0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43C-E98D-4005-B2E5-775BC0F0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546-3E79-414B-9D3D-83AD5FA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FB3-7A06-478A-AF60-306BA02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798-6391-4684-A3ED-1864EE7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379-69C0-4F7D-81CE-317EE040D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914400" y="990720"/>
            <a:ext cx="7467480" cy="31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4"/>
              </a:avLst>
            </a:prstTxWarp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Тема урока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Электрический т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в полупроводник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304920" y="461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то произойдёт, если увеличить температуру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754200" y="14540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341520" y="1411200"/>
            <a:ext cx="78444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2046240" y="254808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752400" y="36291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3262320" y="35924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 flipH="1" rot="3127800">
            <a:off x="2479680" y="920880"/>
            <a:ext cx="13050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 flipH="1" rot="18531600">
            <a:off x="2413440" y="204948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 flipH="1" rot="18531600">
            <a:off x="1087920" y="90972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6"/>
          <p:cNvSpPr/>
          <p:nvPr/>
        </p:nvSpPr>
        <p:spPr>
          <a:xfrm>
            <a:off x="1541520" y="1374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1239840" y="269712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3281400" y="282888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2658960" y="39178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0"/>
          <p:cNvSpPr/>
          <p:nvPr/>
        </p:nvSpPr>
        <p:spPr>
          <a:xfrm>
            <a:off x="3903840" y="3414600"/>
            <a:ext cx="26352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2743200" y="156528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 flipH="1" rot="2954400">
            <a:off x="1102680" y="207108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3249720" y="2801880"/>
            <a:ext cx="325440" cy="34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019920" y="1565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й  элек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3578400" y="2781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ы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1181160" y="265428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2598840" y="3867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260280" y="5257800"/>
            <a:ext cx="8655120" cy="10674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 увеличении температуры энергия и скорости движения электронов увеличиваются и некоторые из них отрываются от своих атомов, становяс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вободными электронами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 Оставшиеся вакантные места с некомпенсированным положительным зарядом (</a:t>
            </a:r>
            <a:r>
              <a:rPr b="0" i="1" lang="ru-RU" sz="1600" spc="-1" strike="noStrike">
                <a:solidFill>
                  <a:srgbClr val="006600"/>
                </a:solidFill>
                <a:latin typeface="Arial"/>
              </a:rPr>
              <a:t>виртуальные заряженные частицы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), называют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ыр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6172200" y="2994120"/>
            <a:ext cx="2514600" cy="20408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 воздействием электрического пол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лектроны и дыр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ют упорядоченное (встречное) движение, образу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лектрический 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1673280" y="408780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754200" y="331776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487 C 0.01215 -0.00972 0.02604 -0.01828 0.03837 -0.02916 C 0.04271 -0.0331 0.04549 -0.03773 0.04948 -0.04189 C 0.0559 -0.04837 0.06302 -0.05393 0.07014 -0.05879 C 0.07778 -0.07939 0.09254 -0.08217 0.1066 -0.09259 C 0.11146 -0.09629 0.11441 -0.10185 0.11927 -0.10509 C 0.13021 -0.11296 0.1408 -0.12106 0.1526 -0.12615 C 0.1592 -0.13495 0.16944 -0.13425 0.17813 -0.13888 C 0.21007 -0.15578 0.23733 -0.15162 0.27326 -0.15162 E">
                                      <p:cBhvr>
                                        <p:cTn id="35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36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C 0.00313 0.00555 0.00782 0.01018 0.00955 0.01689 C 0.01007 0.01898 0.01025 0.02129 0.01111 0.02314 C 0.01233 0.02569 0.01407 0.02801 0.01598 0.02963 C 0.02257 0.03541 0.0323 0.03888 0.03976 0.04213 C 0.04688 0.04513 0.04584 0.0456 0.054 0.05277 C 0.05764 0.05601 0.0625 0.05509 0.06667 0.05694 C 0.07414 0.06365 0.07969 0.06458 0.08889 0.06759 C 0.09375 0.06921 0.09809 0.07338 0.10313 0.07407 C 0.11337 0.07569 0.12327 0.07777 0.13334 0.08009 C 0.15035 0.0787 0.16736 0.07824 0.1842 0.07615 C 0.20313 0.07361 0.21528 0.05301 0.23177 0.04444 C 0.23542 0.0368 0.24011 0.03402 0.24445 0.02731 C 0.24861 0.02083 0.24931 0.01782 0.254 0.0125 C 0.25539 0.01088 0.2573 0.00995 0.25868 0.00833 C 0.26146 0.00509 0.26667 -0.00232 0.26667 -0.00209 C 0.27118 -0.02061 0.26476 0.00208 0.27153 -0.01274 C 0.27691 -0.02454 0.26806 -0.01482 0.27778 -0.02338 C 0.27986 -0.03172 0.28177 -0.03542 0.28733 -0.04028 C 0.29167 -0.05024 0.29532 -0.06065 0.3 -0.06991 C 0.30591 -0.09375 0.30955 -0.12385 0.32066 -0.14375 C 0.32518 -0.16227 0.32674 -0.18774 0.33976 -0.19885 C 0.34618 -0.21158 0.35261 -0.21204 0.36042 -0.22199 C 0.36476 -0.2338 0.36146 -0.22987 0.37153 -0.23473 C 0.37466 -0.23635 0.38091 -0.23912 0.38091 -0.23889 E">
                                      <p:cBhvr>
                                        <p:cTn id="37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with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9" nodeType="afterEffect" fill="hold" presetClass="entr" presetID="9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with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383" nodeType="afterEffect" fill="hold" presetClass="entr" presetID="9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84456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чистых полупроводниках электрический ток создаю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динаковое количество свободных электронов и дырок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 Это собственная проводимость полупровод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1319040" y="21632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1066680" y="5181480"/>
            <a:ext cx="487692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216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334120" y="524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(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"/>
          <p:cNvSpPr/>
          <p:nvPr/>
        </p:nvSpPr>
        <p:spPr>
          <a:xfrm>
            <a:off x="160020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0" y="0"/>
                </a:moveTo>
                <a:cubicBezTo>
                  <a:pt x="52" y="408"/>
                  <a:pt x="104" y="816"/>
                  <a:pt x="336" y="1056"/>
                </a:cubicBezTo>
                <a:cubicBezTo>
                  <a:pt x="568" y="1296"/>
                  <a:pt x="980" y="1368"/>
                  <a:pt x="1392" y="144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лупро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495360" y="5776920"/>
            <a:ext cx="815328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авните и объясните графики зависимости сопротивления металлов и полупроводников от темп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19320" y="990720"/>
            <a:ext cx="6858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месная провод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роводимость полупроводников с добавлением примесей называется примесной проводим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98440" y="228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Для увеличение проводимости в чистые полупроводники внедряют примеси (легируют) , которые бываю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норные и акцеп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86400" y="1593720"/>
            <a:ext cx="2895480" cy="368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норные прим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622440" y="207972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16320" y="207972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1965240" y="321624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581040" y="425772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3316320" y="424188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 flipH="1" rot="3127800">
            <a:off x="2404080" y="1523520"/>
            <a:ext cx="13032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 flipH="1" rot="18531600">
            <a:off x="2372040" y="268920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 flipH="1" rot="18531600">
            <a:off x="957600" y="154152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8"/>
          <p:cNvSpPr/>
          <p:nvPr/>
        </p:nvSpPr>
        <p:spPr>
          <a:xfrm>
            <a:off x="1479600" y="204948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9"/>
          <p:cNvSpPr/>
          <p:nvPr/>
        </p:nvSpPr>
        <p:spPr>
          <a:xfrm>
            <a:off x="819000" y="30639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0"/>
          <p:cNvSpPr/>
          <p:nvPr/>
        </p:nvSpPr>
        <p:spPr>
          <a:xfrm>
            <a:off x="3505320" y="3071880"/>
            <a:ext cx="26820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1"/>
          <p:cNvSpPr/>
          <p:nvPr/>
        </p:nvSpPr>
        <p:spPr>
          <a:xfrm>
            <a:off x="2724120" y="4643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2"/>
          <p:cNvSpPr/>
          <p:nvPr/>
        </p:nvSpPr>
        <p:spPr>
          <a:xfrm>
            <a:off x="3643200" y="374976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2592360" y="222408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 flipH="1" rot="2954400">
            <a:off x="972720" y="2710800"/>
            <a:ext cx="1303200" cy="282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8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5086440" y="2193840"/>
            <a:ext cx="3700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обавлении в четырёх валентный крем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яти валентного мышья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дин из пяти электронов мышьяк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тановится своб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 изменяя концентрацию мышьяка, можно в широких пределах изменять проводимость крем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5440" y="5364000"/>
            <a:ext cx="8175600" cy="1194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месь, дающая свободные электроны, называетс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онорной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 полупроводник с донорной примесью называют полупроводником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n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– типа, основными носителями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заряда в нём являютс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лектр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689040" y="39243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1623960" y="46576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056040" y="328680"/>
            <a:ext cx="2895480" cy="368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кцепторные прим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7800" y="870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Если в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ремний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добавить трехвалентный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ндий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то для образования связей с кремнием у индия не хватает одного электрона, т.е. образуетс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ы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492120" y="207972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3284640" y="206388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1906560" y="3259080"/>
            <a:ext cx="6573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480960" y="4351320"/>
            <a:ext cx="787320" cy="80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3236760" y="422748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 flipH="1" rot="3127800">
            <a:off x="2342160" y="1566360"/>
            <a:ext cx="130320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 flipH="1" rot="18531600">
            <a:off x="2319840" y="2764080"/>
            <a:ext cx="1303200" cy="28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 flipH="1" rot="18531600">
            <a:off x="822240" y="1505880"/>
            <a:ext cx="1422720" cy="29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1428840" y="201132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750960" y="3170160"/>
            <a:ext cx="26496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8"/>
          <p:cNvSpPr/>
          <p:nvPr/>
        </p:nvSpPr>
        <p:spPr>
          <a:xfrm>
            <a:off x="3548160" y="311472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2427120" y="45435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2689200" y="2155680"/>
            <a:ext cx="2635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2"/>
          <p:cNvSpPr/>
          <p:nvPr/>
        </p:nvSpPr>
        <p:spPr>
          <a:xfrm flipH="1" rot="2954400">
            <a:off x="871560" y="2785680"/>
            <a:ext cx="1303560" cy="2824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4"/>
          <p:cNvSpPr/>
          <p:nvPr/>
        </p:nvSpPr>
        <p:spPr>
          <a:xfrm>
            <a:off x="3413160" y="370836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4724280" y="23004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я концентрацию индия, можно в широких пределах изменять проводимость кремния, создавая полупроводник с заданными электрическими св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212760" y="5502240"/>
            <a:ext cx="8534520" cy="9169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акой полупроводник называется полупроводником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– типа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сновными носителям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ряда являю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ырки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, а примесь, дающая дырки, называе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кцепт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4"/>
          <p:cNvSpPr/>
          <p:nvPr/>
        </p:nvSpPr>
        <p:spPr>
          <a:xfrm>
            <a:off x="1349280" y="48704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5"/>
          <p:cNvSpPr/>
          <p:nvPr/>
        </p:nvSpPr>
        <p:spPr>
          <a:xfrm>
            <a:off x="622440" y="38466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1066680" y="38088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вод: существует 2 типа полупроводников, имеющих большое практическое примен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упроводники р – типа и полупроводники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-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523880" y="2133720"/>
            <a:ext cx="1447920" cy="3988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 -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867280" y="2133720"/>
            <a:ext cx="1447920" cy="3988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-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04920" y="2819520"/>
            <a:ext cx="3809880" cy="642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ные носители заряда 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ы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648320" y="2819520"/>
            <a:ext cx="3809880" cy="642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ные носители заряда 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685800" y="2133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5105520" y="2133720"/>
            <a:ext cx="380880" cy="38880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04920" y="4572000"/>
            <a:ext cx="84582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мимо основных носителей в полупроводнике существует очень малое числ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основных носителей заряда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 в полупроводнике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– типа это электроны, а в полупроводнике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ипа это ды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9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990720" y="1676520"/>
            <a:ext cx="76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полупроводн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частицами создаётся ток в полупроводни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примесная проводимость отличается от собствен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чего легируют чистые полупроводн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полупроводник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и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полупроводник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ти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с увеличением температуры сопротивление полупроводников уменьшае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731880"/>
            <a:ext cx="670572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просы для повт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19320" y="412920"/>
            <a:ext cx="6705360" cy="2717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опросы для дальнейшего изучения электропроводимости полупроводников на следующих 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нтакт полупроводников р 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-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ипа (электронно-дырочный перех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дносторонняя проводимость р 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-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ехода и полупроводниковые ди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е полупроводниковых ди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1219320" y="3352680"/>
            <a:ext cx="6705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ть сравнительную таблицу «Электрический ток в различных сред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ть сообщение «Первое практическое применение полупроводниковых термоэлементов в годы ВОВ» («Партизанский котелок») – по жел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606600" y="152388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уществует третий класс веществ, отличающийся от проводников и диэлектриков - полупрово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762120" y="1295280"/>
            <a:ext cx="7772400" cy="3385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Временно секретная информа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93800" y="990720"/>
            <a:ext cx="76644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знакомитьс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 особым классом веществ – полупроводни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нять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 что такое собственная и примесная проводимость полупровод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изучить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зависимость электропроводимости полупроводников от температуры и наличия приме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0880" y="31896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ректируем свои представления о группах веществ по электрической провод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 электрической проводимости вещества можно разделить на 3 основны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349800" y="1905120"/>
            <a:ext cx="259056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сновны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950760" y="380988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во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505320" y="4191120"/>
            <a:ext cx="22860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лупрово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6019920" y="384804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элект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057400" y="3257640"/>
            <a:ext cx="49528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2057400" y="3276720"/>
            <a:ext cx="0" cy="571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4646520" y="2971800"/>
            <a:ext cx="1800" cy="123516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7026120" y="3257640"/>
            <a:ext cx="0" cy="60948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80880" y="44658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рошо проводят электрический 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металлы, электролиты, плазм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спользуемые проводники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, Cu, Al, F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427800" y="453564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ктически не проводят электрический 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пластмассы, резина, стекло, фарфор, сухое дерево, бумаг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349800" y="4952880"/>
            <a:ext cx="2590560" cy="1483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водимост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ежуточное поло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жду проводниками и диэлектр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, Ge, Se, In, 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Статьи автора &quot;Николай Лазаренко&quot;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66" name="Прямая соединительная линия 2"/>
          <p:cNvSpPr/>
          <p:nvPr/>
        </p:nvSpPr>
        <p:spPr>
          <a:xfrm flipV="1">
            <a:off x="2712960" y="1001880"/>
            <a:ext cx="1471680" cy="79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>
            <a:off x="3487680" y="3905280"/>
            <a:ext cx="29131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0"/>
          <p:cNvSpPr/>
          <p:nvPr/>
        </p:nvSpPr>
        <p:spPr>
          <a:xfrm flipV="1">
            <a:off x="4203720" y="1026720"/>
            <a:ext cx="0" cy="4366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8"/>
          <p:cNvSpPr/>
          <p:nvPr/>
        </p:nvSpPr>
        <p:spPr>
          <a:xfrm flipH="1">
            <a:off x="4203720" y="1506600"/>
            <a:ext cx="14479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2"/>
          <p:cNvSpPr/>
          <p:nvPr/>
        </p:nvSpPr>
        <p:spPr>
          <a:xfrm>
            <a:off x="5651640" y="1463760"/>
            <a:ext cx="2880" cy="18842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6"/>
          <p:cNvSpPr/>
          <p:nvPr/>
        </p:nvSpPr>
        <p:spPr>
          <a:xfrm>
            <a:off x="2692440" y="1444680"/>
            <a:ext cx="7621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41983"/>
          <p:cNvSpPr/>
          <p:nvPr/>
        </p:nvSpPr>
        <p:spPr>
          <a:xfrm>
            <a:off x="2712960" y="1001880"/>
            <a:ext cx="0" cy="4474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41991"/>
          <p:cNvSpPr/>
          <p:nvPr/>
        </p:nvSpPr>
        <p:spPr>
          <a:xfrm>
            <a:off x="3490920" y="1449360"/>
            <a:ext cx="0" cy="24811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1998"/>
          <p:cNvSpPr/>
          <p:nvPr/>
        </p:nvSpPr>
        <p:spPr>
          <a:xfrm>
            <a:off x="6394320" y="3352680"/>
            <a:ext cx="0" cy="5335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2003"/>
          <p:cNvSpPr/>
          <p:nvPr/>
        </p:nvSpPr>
        <p:spPr>
          <a:xfrm>
            <a:off x="5684760" y="3352680"/>
            <a:ext cx="71604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012"/>
          <p:cNvSpPr/>
          <p:nvPr/>
        </p:nvSpPr>
        <p:spPr>
          <a:xfrm>
            <a:off x="3502080" y="1952640"/>
            <a:ext cx="2149560" cy="479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2"/>
          <p:cNvSpPr/>
          <p:nvPr/>
        </p:nvSpPr>
        <p:spPr>
          <a:xfrm>
            <a:off x="3502080" y="2876400"/>
            <a:ext cx="2135160" cy="479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4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роме 12 чистых химических элементов, полупроводниками являются многие оксиды и сульфиды металлов, некоторые органически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ибольшее применение в технике имеют германий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Ge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и кремний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762120" y="914400"/>
            <a:ext cx="7696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бственная проводимость полу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роводимость чистых полупроводников называют собственной проводим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80880" y="304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особность веществ проводить ток обусловлена наличием в них свободных заряжен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133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в металлах это свободные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1295280" y="2895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1295280" y="4572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22860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2971800" y="2895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297180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733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2209680" y="3886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3733920" y="3886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-228600" y="26668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-228600" y="42670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4864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9"/>
          <p:cNvSpPr/>
          <p:nvPr/>
        </p:nvSpPr>
        <p:spPr>
          <a:xfrm>
            <a:off x="4876920" y="2895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48769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562720" y="3886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-228600" y="22096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-228600" y="31240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-228600" y="373392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5"/>
          <p:cNvSpPr/>
          <p:nvPr/>
        </p:nvSpPr>
        <p:spPr>
          <a:xfrm>
            <a:off x="-228600" y="487692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-380880" y="28954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7"/>
          <p:cNvSpPr/>
          <p:nvPr/>
        </p:nvSpPr>
        <p:spPr>
          <a:xfrm>
            <a:off x="-457200" y="24382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8"/>
          <p:cNvSpPr/>
          <p:nvPr/>
        </p:nvSpPr>
        <p:spPr>
          <a:xfrm>
            <a:off x="-457200" y="464832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9"/>
          <p:cNvSpPr/>
          <p:nvPr/>
        </p:nvSpPr>
        <p:spPr>
          <a:xfrm>
            <a:off x="-228600" y="3352680"/>
            <a:ext cx="228600" cy="2286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0"/>
          <p:cNvSpPr/>
          <p:nvPr/>
        </p:nvSpPr>
        <p:spPr>
          <a:xfrm>
            <a:off x="6705720" y="2895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1"/>
          <p:cNvSpPr/>
          <p:nvPr/>
        </p:nvSpPr>
        <p:spPr>
          <a:xfrm>
            <a:off x="67057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2"/>
          <p:cNvSpPr/>
          <p:nvPr/>
        </p:nvSpPr>
        <p:spPr>
          <a:xfrm>
            <a:off x="72388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3"/>
          <p:cNvSpPr/>
          <p:nvPr/>
        </p:nvSpPr>
        <p:spPr>
          <a:xfrm>
            <a:off x="7238880" y="3886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 flipH="1">
            <a:off x="2666520" y="2057400"/>
            <a:ext cx="5410440" cy="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5"/>
          <p:cNvSpPr/>
          <p:nvPr/>
        </p:nvSpPr>
        <p:spPr>
          <a:xfrm flipH="1">
            <a:off x="2666520" y="2743200"/>
            <a:ext cx="5410440" cy="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H="1">
            <a:off x="2743200" y="3505320"/>
            <a:ext cx="5410080" cy="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7"/>
          <p:cNvSpPr/>
          <p:nvPr/>
        </p:nvSpPr>
        <p:spPr>
          <a:xfrm flipH="1">
            <a:off x="2743200" y="4267080"/>
            <a:ext cx="5410080" cy="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 flipH="1">
            <a:off x="2743200" y="5105520"/>
            <a:ext cx="5410080" cy="0"/>
          </a:xfrm>
          <a:prstGeom prst="line">
            <a:avLst/>
          </a:prstGeom>
          <a:ln w="1908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0"/>
              <p:cNvSpPr txBox="1"/>
              <p:nvPr/>
            </p:nvSpPr>
            <p:spPr>
              <a:xfrm>
                <a:off x="8229600" y="1523880"/>
                <a:ext cx="533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Е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4" name="Text Box 41"/>
          <p:cNvSpPr/>
          <p:nvPr/>
        </p:nvSpPr>
        <p:spPr>
          <a:xfrm>
            <a:off x="1209600" y="5856120"/>
            <a:ext cx="6867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ую роль в создании тока играет электрическое п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09827E-006 C -0.00104 -0.00278 -0.00295 -0.00532 -0.00312 -0.00856 C -0.00347 -0.01272 -0.00416 -0.02382 -0.00156 -0.02127 C 0.00209 -0.0178 0.00156 -0.00416 0.00156 -0.00393 C 0.00625 -0.0333 0.0007 0.00208 -2.22222E-006 0.00208 C -0.00434 0.00208 0.00591 -0.0148 0.00156 -0.0148 C -0.00278 -0.0148 -0.00052 -0.00347 -0.00156 0.00208 C -0.00625 -0.0074 -0.00416 -0.00879 -0.00156 -0.01896 C -0.00104 -0.01619 -0.00191 -0.01202 -2.22222E-006 -0.01064 C 0.00139 -0.00971 -2.22222000000006E-006 -0.0178 0.00156 -0.01688 C 0.00347 -0.01572 0.00261 -0.01133 0.0033 -0.00856 C 0.00382 -0.00648 0.00573 1.09826999999995E-006 0.00486 -0.00208 C 0.00347 -0.00555 0.00261 -0.00925 0.00156 -0.01272 C -2.22222000000006E-006 -0.00994 -0.00052 -0.00416 -0.00312 -0.00416 C -0.00538 -0.00416 -0.00382 -0.01272 -0.00156 -0.01272 C 0.0007 -0.01272 -0.00052 -0.00694 -2.22222E-006 -0.00416 C 0.00417 -0.0215 0.00018 -0.00301 -0.00156 -0.00416 C -0.00416 -0.00578 -0.00364 -0.01133 -0.00469 -0.0148 C -0.00972 -0.00116 -0.00625 -0.00856 -0.00312 0.00416 C -0.0026 0.00069 -0.00347 -0.00393 -0.00156 -0.00648 C -0.00034 -0.00809 0.0007 0.00208 -2.22222E-006 1.09827E-006 C -0.00868 -0.02289 -0.00139 -0.00717 -2.22222E-006 -0.00416 C 0.00226 -0.02844 0.00191 -0.02705 -2.22222E-006 1.09827E-006 Z">
                                      <p:cBhvr>
                                        <p:cTn id="192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2948E-006 C -0.00156 -0.00139 -0.00295 -0.00555 -0.00468 -0.00439 C -0.00625 -0.00347 -0.00486 0.00162 -0.00312 0.00208 C -0.00086 0.00277 0.00122 -0.00069 0.0033 -0.00208 C 0.00122 -0.00624 -0.00104 -0.01064 -0.00312 -0.0148 C -0.00555 -0.01965 0.00243 0.00694 -8.33333E-007 0.00208 C -0.00104 3.29479999999988E-006 -0.00208 -0.00231 -0.00312 -0.00439 C -0.00121 -0.01202 -0.00156 -0.00855 -0.00156 -0.0148 E">
                                      <p:cBhvr>
                                        <p:cTn id="194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4509E-006 C -0.00105 0.00347 -0.00278 0.01434 -0.0033 0.01064 C -0.00434 0.00231 -0.00313 -0.00647 -0.00174 -0.0148 C -0.00139 -0.01688 0.00104 -0.0067 8.33333E-007 -0.00855 C -0.00105 -0.01063 -0.00226 -0.01271 -0.0033 -0.0148 C -0.00226 -0.01063 -0.00105 -0.00624 8.33333E-007 -0.00208 C 0.00052 1.44509000000017E-006 0.00277 -0.00693 0.00156 -0.00855 C 0.00034 -0.00994 -0.00139 -0.00624 -0.00174 -0.00416 C -0.00209 -0.00254 -0.00052 -0.00139 8.33333E-007 1.44509E-006 Z">
                                      <p:cBhvr>
                                        <p:cTn id="19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6994E-006 C 0.00053 -0.00347 -0.00034 -0.0081 0.00157 -0.01064 C 0.00278 -0.01226 0.00348 -0.00648 0.00313 -0.00416 C 0.00278 -0.00162 0.00105 2.36994000000004E-006 -1.11111E-006 0.00208 C -0.00104 -0.0007 -0.00069 -0.00648 -0.00312 -0.00648 C -0.00538 -0.00648 -0.00607 2.36994000000004E-006 -0.00468 0.00208 C -0.00347 0.00393 -0.0026 -0.00208 -0.00156 -0.00416 C 0.00278 -0.0222 -0.00347 2.36994E-006 0.00157 2.36994E-006 C 0.00434 2.36994E-006 0.00261 -0.00717 0.00313 -0.01064 C 0.00105 -0.01203 -0.00156 -0.01711 -0.00312 -0.0148 C -0.00503 -0.01226 -0.00347 -0.00671 -0.00156 -0.00416 C -0.00034 -0.00255 -0.00052 -0.00856 -1.11111E-006 -0.01064 C -0.01284 -0.0148 -0.00416 -0.01295 -0.00156 -0.00856 C -0.00052 -0.00671 -0.00052 -0.00416 -1.11111E-006 -0.00208 C 0.00053 -0.00694 -1.11111000000003E-006 -0.01249 0.00157 -0.01688 C 0.00226 -0.01896 0.00226 -0.01249 0.00313 -0.01064 C 0.004 -0.00902 0.00695 -0.00833 0.00643 -0.00648 C 0.00539 -0.00324 0.00209 -0.00208 -1.11111E-006 2.36994E-006 Z">
                                      <p:cBhvr>
                                        <p:cTn id="198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2948E-006 C -0.00156 -0.00139 -0.00295 -0.00555 -0.00468 -0.00439 C -0.00625 -0.00347 -0.00486 0.00162 -0.00312 0.00208 C -0.00086 0.00277 0.00122 -0.00069 0.0033 -0.00208 C 0.00122 -0.00624 -0.00104 -0.01064 -0.00312 -0.0148 C -0.00555 -0.01965 0.00243 0.00694 -8.33333E-007 0.00208 C -0.00104 3.29479999999988E-006 -0.00208 -0.00231 -0.00312 -0.00439 C -0.00121 -0.01202 -0.00156 -0.00855 -0.00156 -0.0148 E">
                                      <p:cBhvr>
                                        <p:cTn id="20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09827E-006 C -0.00104 -0.00278 -0.00295 -0.00532 -0.00312 -0.00856 C -0.00347 -0.01272 -0.00416 -0.02382 -0.00156 -0.02127 C 0.00209 -0.0178 0.00156 -0.00416 0.00156 -0.00393 C 0.00625 -0.0333 0.0007 0.00208 -2.22222E-006 0.00208 C -0.00434 0.00208 0.00591 -0.0148 0.00156 -0.0148 C -0.00278 -0.0148 -0.00052 -0.00347 -0.00156 0.00208 C -0.00625 -0.0074 -0.00416 -0.00879 -0.00156 -0.01896 C -0.00104 -0.01619 -0.00191 -0.01202 -2.22222E-006 -0.01064 C 0.00139 -0.00971 -2.22222000000006E-006 -0.0178 0.00156 -0.01688 C 0.00347 -0.01572 0.00261 -0.01133 0.0033 -0.00856 C 0.00382 -0.00648 0.00573 1.09826999999995E-006 0.00486 -0.00208 C 0.00347 -0.00555 0.00261 -0.00925 0.00156 -0.01272 C -2.22222000000006E-006 -0.00994 -0.00052 -0.00416 -0.00312 -0.00416 C -0.00538 -0.00416 -0.00382 -0.01272 -0.00156 -0.01272 C 0.0007 -0.01272 -0.00052 -0.00694 -2.22222E-006 -0.00416 C 0.00417 -0.0215 0.00018 -0.00301 -0.00156 -0.00416 C -0.00416 -0.00578 -0.00364 -0.01133 -0.00469 -0.0148 C -0.00972 -0.00116 -0.00625 -0.00856 -0.00312 0.00416 C -0.0026 0.00069 -0.00347 -0.00393 -0.00156 -0.00648 C -0.00034 -0.00809 0.0007 0.00208 -2.22222E-006 1.09827E-006 C -0.00868 -0.02289 -0.00139 -0.00717 -2.22222E-006 -0.00416 C 0.00226 -0.02844 0.00191 -0.02705 -2.22222E-006 1.09827E-006 Z">
                                      <p:cBhvr>
                                        <p:cTn id="202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2948E-006 C -0.00156 -0.00139 -0.00295 -0.00555 -0.00468 -0.00439 C -0.00625 -0.00347 -0.00486 0.00162 -0.00312 0.00208 C -0.00086 0.00277 0.00122 -0.00069 0.0033 -0.00208 C 0.00122 -0.00624 -0.00104 -0.01064 -0.00312 -0.0148 C -0.00555 -0.01965 0.00243 0.00694 -8.33333E-007 0.00208 C -0.00104 3.29479999999988E-006 -0.00208 -0.00231 -0.00312 -0.00439 C -0.00121 -0.01202 -0.00156 -0.00855 -0.00156 -0.0148 E">
                                      <p:cBhvr>
                                        <p:cTn id="204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20231E-006 C 0.00052 -0.00278 -0.00017 -0.0067 0.00156 -0.00856 C 0.00295 -0.00995 0.00642 -0.00879 0.00642 -0.00648 C 0.00642 -0.00417 0.00313 -0.00509 0.00156 -0.0044 C 0.00052 -0.00718 0.0007 -0.01272 -0.00156 -0.01272 C -0.00365 -0.01272 -0.00191 -0.00301 -5.55556E-007 -0.0044 C 0.00243 -0.00602 0.00104 -0.01134 0.00156 -0.01481 C 0.00538 0.00716 0.00833 0.00878 -5.55556E-007 -0.00232 C 0.00104 -0.00371 0.00191 -0.00718 0.0033 -0.00648 C 0.00486 -0.00579 0.00608 -0.00163 0.00486 -5.20231E-006 C 0.00365 0.00138 0.0026 -0.00278 0.00156 -0.0044 C 0.00035 -0.00625 -0.00052 -0.00856 -0.00156 -0.01064 C 0.00278 -0.02845 0.00052 -0.00278 -5.55556E-007 -5.20231E-006 Z">
                                      <p:cBhvr>
                                        <p:cTn id="20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4 C -0.00087 0.00371 -0.0026 0.01459 -0.00312 0.01088 C -0.00417 0.00255 -0.00295 -0.00625 -0.00156 -0.01458 C -0.00122 -0.01666 0.00122 -0.00648 0.00017 -0.00833 C -0.00087 -0.01041 -0.00208 -0.0125 -0.00312 -0.01458 C -0.00208 -0.01041 -0.00087 -0.00601 0.00017 -0.00185 C 0.00069 0.00024 0.00295 -0.00671 0.00174 -0.00833 C 0.00052 -0.00972 -0.00122 -0.00601 -0.00156 -0.00393 C -0.00191 -0.00231 -0.00035 -0.00115 0.00017 0.00024 Z">
                                      <p:cBhvr>
                                        <p:cTn id="208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6994E-006 C 0.00053 -0.00347 -0.00034 -0.0081 0.00157 -0.01064 C 0.00278 -0.01226 0.00348 -0.00648 0.00313 -0.00416 C 0.00278 -0.00162 0.00105 2.36994000000004E-006 -1.11111E-006 0.00208 C -0.00104 -0.0007 -0.00069 -0.00648 -0.00312 -0.00648 C -0.00538 -0.00648 -0.00607 2.36994000000004E-006 -0.00468 0.00208 C -0.00347 0.00393 -0.0026 -0.00208 -0.00156 -0.00416 C 0.00278 -0.0222 -0.00347 2.36994E-006 0.00157 2.36994E-006 C 0.00434 2.36994E-006 0.00261 -0.00717 0.00313 -0.01064 C 0.00105 -0.01203 -0.00156 -0.01711 -0.00312 -0.0148 C -0.00503 -0.01226 -0.00347 -0.00671 -0.00156 -0.00416 C -0.00034 -0.00255 -0.00052 -0.00856 -1.11111E-006 -0.01064 C -0.01284 -0.0148 -0.00416 -0.01295 -0.00156 -0.00856 C -0.00052 -0.00671 -0.00052 -0.00416 -1.11111E-006 -0.00208 C 0.00053 -0.00694 -1.11111000000003E-006 -0.01249 0.00157 -0.01688 C 0.00226 -0.01896 0.00226 -0.01249 0.00313 -0.01064 C 0.004 -0.00902 0.00695 -0.00833 0.00643 -0.00648 C 0.00539 -0.00324 0.00209 -0.00208 -1.11111E-006 2.36994E-006 Z">
                                      <p:cBhvr>
                                        <p:cTn id="210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5087E-006 C -0.00156 -0.00139 -0.00417 -0.00208 -0.00486 -0.0044 C -0.00556 -0.00648 -0.00486 -0.01064 -0.0033 -0.01064 C -0.00174 -0.01064 -0.00226 -0.00648 -0.00174 -0.0044 C -0.00122 -0.00717 0.00139 -0.0148 8.33333E-007 -0.01272 C -0.00191 -0.00995 -0.0033 -0.00601 -0.0033 -0.00208 C -0.0033 4.45087000000002E-006 -0.00104 -0.00509 8.33333E-007 -0.00648 C 0.00382 -0.02197 0.00052 -0.00648 -0.00174 -0.00648 C -0.00382 -0.00648 -0.00729 -0.0222 -0.0033 -0.00648 C -0.0007 -0.01688 -0.00208 -0.0148 8.33333E-007 4.45087E-006 Z">
                                      <p:cBhvr>
                                        <p:cTn id="21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20231E-006 C 0.00052 -0.00278 -0.00017 -0.0067 0.00156 -0.00856 C 0.00295 -0.00995 0.00642 -0.00879 0.00642 -0.00648 C 0.00642 -0.00417 0.00313 -0.00509 0.00156 -0.0044 C 0.00052 -0.00718 0.0007 -0.01272 -0.00156 -0.01272 C -0.00365 -0.01272 -0.00191 -0.00301 -5.55556E-007 -0.0044 C 0.00243 -0.00602 0.00104 -0.01134 0.00156 -0.01481 C 0.00538 0.00716 0.00833 0.00878 -5.55556E-007 -0.00232 C 0.00104 -0.00371 0.00191 -0.00718 0.0033 -0.00648 C 0.00486 -0.00579 0.00608 -0.00163 0.00486 -5.20231E-006 C 0.00365 0.00138 0.0026 -0.00278 0.00156 -0.0044 C 0.00035 -0.00625 -0.00052 -0.00856 -0.00156 -0.01064 C 0.00278 -0.02845 0.00052 -0.00278 -5.55556E-007 -5.20231E-006 Z">
                                      <p:cBhvr>
                                        <p:cTn id="214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20231E-006 C 0.00052 -0.00278 -0.00017 -0.0067 0.00156 -0.00856 C 0.00295 -0.00995 0.00642 -0.00879 0.00642 -0.00648 C 0.00642 -0.00417 0.00313 -0.00509 0.00156 -0.0044 C 0.00052 -0.00718 0.0007 -0.01272 -0.00156 -0.01272 C -0.00365 -0.01272 -0.00191 -0.00301 -5.55556E-007 -0.0044 C 0.00243 -0.00602 0.00104 -0.01134 0.00156 -0.01481 C 0.00538 0.00716 0.00833 0.00878 -5.55556E-007 -0.00232 C 0.00104 -0.00371 0.00191 -0.00718 0.0033 -0.00648 C 0.00486 -0.00579 0.00608 -0.00163 0.00486 -5.20231E-006 C 0.00365 0.00138 0.0026 -0.00278 0.00156 -0.0044 C 0.00035 -0.00625 -0.00052 -0.00856 -0.00156 -0.01064 C 0.00278 -0.02845 0.00052 -0.00278 -5.55556E-007 -5.20231E-006 Z">
                                      <p:cBhvr>
                                        <p:cTn id="21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6358E-006 C -0.00104 0.00139 -0.00226 0.00301 -0.0033 0.00439 C -0.00452 0.00601 -0.00035 0.01225 -0.00156 0.01064 C -0.0033 0.00832 -0.00382 0.00509 -0.00486 0.00231 C -0.00486 0.00231 -0.00191 -0.0104 -0.00156 -0.0104 C -1.66666999999992E-006 -0.0104 0.00121 -0.00555 -1.66667E-006 -0.00416 C -0.00104 -0.00277 -0.00226 -0.00694 -0.0033 -0.00832 C -0.00278 -0.00347 -0.00434 0.00301 -0.00156 0.00647 C 0.00035 0.00902 0.00035 -0.00069 -1.66667E-006 -0.00416 C -0.00018 -0.00624 -0.00226 -0.00694 -0.0033 -0.00832 C -0.00278 -0.00624 -0.0033 -0.00208 -0.00156 -0.00208 C -1.66666999999992E-006 -0.00208 -0.00139 -0.00925 -1.66667E-006 -0.00832 C 0.00191 -0.00694 0.00156 -0.00277 0.00156 -3.06358E-006 C 0.00156 0.00069 0.00052 -3.06358E-006 -1.66667E-006 -3.06358E-006 Z">
                                      <p:cBhvr>
                                        <p:cTn id="218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5087E-006 C -0.00156 -0.00139 -0.00417 -0.00208 -0.00486 -0.0044 C -0.00556 -0.00648 -0.00486 -0.01064 -0.0033 -0.01064 C -0.00174 -0.01064 -0.00226 -0.00648 -0.00174 -0.0044 C -0.00122 -0.00717 0.00139 -0.0148 8.33333E-007 -0.01272 C -0.00191 -0.00995 -0.0033 -0.00601 -0.0033 -0.00208 C -0.0033 4.45087000000002E-006 -0.00104 -0.00509 8.33333E-007 -0.00648 C 0.00382 -0.02197 0.00052 -0.00648 -0.00174 -0.00648 C -0.00382 -0.00648 -0.00729 -0.0222 -0.0033 -0.00648 C -0.0007 -0.01688 -0.00208 -0.0148 8.33333E-007 4.45087E-006 Z">
                                      <p:cBhvr>
                                        <p:cTn id="220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37572E-006 C -0.00903 -0.01271 0.00347 0.00209 -0.00625 0.00209 C -0.00798 0.00209 -0.00781 -0.0067 -0.00781 -0.00439 C -0.00781 -0.00138 -0.00677 0.00139 -0.00625 0.00417 C -0.00573 0.00209 -0.00642 -0.00231 -0.00469 -0.00231 C -0.00295 -0.00231 -0.00191 0.00255 -0.00312 0.00417 C -0.00434 0.00579 -0.00625 0.00278 -0.00781 0.00209 C -0.00052 -0.01294 -0.00625 0.00209 -0.01111 -0.00231 C -0.0125 -0.00346 -0.00937 -0.00624 -0.00937 -0.00855 C -0.00937 -0.00924 -0.01059 -0.00855 -0.01111 -0.00855 E">
                                      <p:cBhvr>
                                        <p:cTn id="222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7.63006E-006 C 0.03091 0.00208 0.06372 0.00693 0.09358 -0.00648 C 0.10209 -0.01041 0.11025 -0.01527 0.11893 -0.01897 C 0.12535 -0.02174 0.13803 -0.02752 0.13803 -0.02752 C 0.15973 -0.0266 0.19827 -0.03029 0.22223 -0.01688 C 0.22726 -0.01388 0.23143 -0.01018 0.2349 -0.00417 C 0.23594 -0.00209 0.23646 0.00069 0.23785 0.00208 C 0.24428 0.00716 0.2533 0.00716 0.26025 0.01063 C 0.28334 0.00924 0.30678 0.00878 0.33004 0.00624 C 0.33698 0.00554 0.34289 -0.00301 0.34914 -0.00648 C 0.35487 -0.00949 0.36094 -0.0118 0.36667 -0.0148 C 0.38143 -0.01411 0.39636 -0.01434 0.41094 -0.01272 C 0.41893 -0.0118 0.42726 -0.00463 0.4349 -0.00209 C 0.45626 0.00485 0.47778 0.01317 0.50001 0.01479 C 0.53924 0.01757 0.62813 0.01849 0.65209 0.01895 C 0.69619 0.0208 0.73716 0.03144 0.78091 0.03167 C 0.89046 0.03236 1.00001 0.03167 1.10955 0.03167 E">
                                      <p:cBhvr>
                                        <p:cTn id="245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C 0.03959 0.01757 0.08351 0.00185 0.12535 4.79769E-006 C 0.16528 -0.0111 0.14202 -0.00625 0.21893 -0.00232 C 0.22552 -0.00209 0.22917 0.00393 0.2349 0.00624 C 0.24462 0.00994 0.25521 0.00924 0.26511 0.01248 C 0.29375 0.00901 0.33368 0.00138 0.36025 -0.01711 C 0.37396 -0.01642 0.38785 -0.01619 0.40157 -0.0148 C 0.40643 -0.01434 0.40677 -0.0111 0.41112 -0.00856 C 0.41424 -0.00671 0.42066 -0.0044 0.42066 -0.0044 C 0.43143 0.00578 0.44427 0.00624 0.45712 0.00832 C 0.51789 0.00693 0.57865 0.00416 0.63941 0.00416 C 0.68507 0.00416 0.77622 0.00832 0.77622 0.00832 C 0.87552 0.02011 0.97657 0.01479 1.07622 0.01479 E">
                                      <p:cBhvr>
                                        <p:cTn id="248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25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7.63006E-006 C 0.03091 0.00208 0.06372 0.00693 0.09358 -0.00648 C 0.10209 -0.01041 0.11025 -0.01527 0.11893 -0.01897 C 0.12535 -0.02174 0.13803 -0.02752 0.13803 -0.02752 C 0.15973 -0.0266 0.19827 -0.03029 0.22223 -0.01688 C 0.22726 -0.01388 0.23143 -0.01018 0.2349 -0.00417 C 0.23594 -0.00209 0.23646 0.00069 0.23785 0.00208 C 0.24428 0.00716 0.2533 0.00716 0.26025 0.01063 C 0.28334 0.00924 0.30678 0.00878 0.33004 0.00624 C 0.33698 0.00554 0.34289 -0.00301 0.34914 -0.00648 C 0.35487 -0.00949 0.36094 -0.0118 0.36667 -0.0148 C 0.38143 -0.01411 0.39636 -0.01434 0.41094 -0.01272 C 0.41893 -0.0118 0.42726 -0.00463 0.4349 -0.00209 C 0.45626 0.00485 0.47778 0.01317 0.50001 0.01479 C 0.53924 0.01757 0.62813 0.01849 0.65209 0.01895 C 0.69619 0.0208 0.73716 0.03144 0.78091 0.03167 C 0.89046 0.03236 1.00001 0.03167 1.10955 0.03167 E">
                                      <p:cBhvr>
                                        <p:cTn id="251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253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73472E-018 0.00023 C 0.0849 0.00301 0.10903 0.00509 0.2151 -0.00185 C 0.21875 -0.00208 0.21892 -0.00948 0.2217 -0.01179 C 0.22361 -0.01341 0.22604 -0.01434 0.22813 -0.01572 C 0.23142 -0.01827 0.23455 -0.02127 0.23785 -0.02382 C 0.23941 -0.0252 0.24253 -0.02775 0.24253 -0.02775 C 0.26302 -0.02613 0.27969 -0.02335 0.30104 -0.02197 C 0.30903 -0.01873 0.31649 -0.01734 0.32517 -0.01572 C 0.32899 -0.01434 0.33299 -0.01387 0.33628 -0.01179 C 0.33837 -0.0111 0.33958 -0.00856 0.34132 -0.00786 C 0.35451 -0.00254 0.36979 -0.00116 0.38351 0.00208 C 0.41493 -0.00093 0.44462 -0.00786 0.47569 -0.01387 C 0.4842 -0.02127 0.49479 -0.02289 0.50486 -0.0259 C 0.54861 -0.0252 0.59219 -0.02497 0.63559 -0.02382 C 0.64792 -0.02382 0.65938 -0.01965 0.67135 -0.01804 C 0.70816 -0.01341 0.74444 -0.01133 0.78142 -0.00994 C 0.80538 -0.00278 0.83767 -0.00486 0.86076 -0.00393 C 0.91476 -0.00578 0.97378 -0.01179 1.02917 -0.01179 E">
                                      <p:cBhvr>
                                        <p:cTn id="254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56" nodeType="after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C 0.03959 0.01757 0.08351 0.00185 0.12535 4.79769E-006 C 0.16528 -0.0111 0.14202 -0.00625 0.21893 -0.00232 C 0.22552 -0.00209 0.22917 0.00393 0.2349 0.00624 C 0.24462 0.00994 0.25521 0.00924 0.26511 0.01248 C 0.29375 0.00901 0.33368 0.00138 0.36025 -0.01711 C 0.37396 -0.01642 0.38785 -0.01619 0.40157 -0.0148 C 0.40643 -0.01434 0.40677 -0.0111 0.41112 -0.00856 C 0.41424 -0.00671 0.42066 -0.0044 0.42066 -0.0044 C 0.43143 0.00578 0.44427 0.00624 0.45712 0.00832 C 0.51789 0.00693 0.57865 0.00416 0.63941 0.00416 C 0.68507 0.00416 0.77622 0.00832 0.77622 0.00832 C 0.87552 0.02011 0.97657 0.01479 1.07622 0.01479 E">
                                      <p:cBhvr>
                                        <p:cTn id="257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59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73472E-018 0.00023 C 0.0849 0.00301 0.10903 0.00509 0.2151 -0.00185 C 0.21875 -0.00208 0.21892 -0.00948 0.2217 -0.01179 C 0.22361 -0.01341 0.22604 -0.01434 0.22813 -0.01572 C 0.23142 -0.01827 0.23455 -0.02127 0.23785 -0.02382 C 0.23941 -0.0252 0.24253 -0.02775 0.24253 -0.02775 C 0.26302 -0.02613 0.27969 -0.02335 0.30104 -0.02197 C 0.30903 -0.01873 0.31649 -0.01734 0.32517 -0.01572 C 0.32899 -0.01434 0.33299 -0.01387 0.33628 -0.01179 C 0.33837 -0.0111 0.33958 -0.00856 0.34132 -0.00786 C 0.35451 -0.00254 0.36979 -0.00116 0.38351 0.00208 C 0.41493 -0.00093 0.44462 -0.00786 0.47569 -0.01387 C 0.4842 -0.02127 0.49479 -0.02289 0.50486 -0.0259 C 0.54861 -0.0252 0.59219 -0.02497 0.63559 -0.02382 C 0.64792 -0.02382 0.65938 -0.01965 0.67135 -0.01804 C 0.70816 -0.01341 0.74444 -0.01133 0.78142 -0.00994 C 0.80538 -0.00278 0.83767 -0.00486 0.86076 -0.00393 C 0.91476 -0.00578 0.97378 -0.01179 1.02917 -0.01179 E">
                                      <p:cBhvr>
                                        <p:cTn id="260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262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73472E-018 0.00023 C 0.0849 0.00301 0.10903 0.00509 0.2151 -0.00185 C 0.21875 -0.00208 0.21892 -0.00948 0.2217 -0.01179 C 0.22361 -0.01341 0.22604 -0.01434 0.22813 -0.01572 C 0.23142 -0.01827 0.23455 -0.02127 0.23785 -0.02382 C 0.23941 -0.0252 0.24253 -0.02775 0.24253 -0.02775 C 0.26302 -0.02613 0.27969 -0.02335 0.30104 -0.02197 C 0.30903 -0.01873 0.31649 -0.01734 0.32517 -0.01572 C 0.32899 -0.01434 0.33299 -0.01387 0.33628 -0.01179 C 0.33837 -0.0111 0.33958 -0.00856 0.34132 -0.00786 C 0.35451 -0.00254 0.36979 -0.00116 0.38351 0.00208 C 0.41493 -0.00093 0.44462 -0.00786 0.47569 -0.01387 C 0.4842 -0.02127 0.49479 -0.02289 0.50486 -0.0259 C 0.54861 -0.0252 0.59219 -0.02497 0.63559 -0.02382 C 0.64792 -0.02382 0.65938 -0.01965 0.67135 -0.01804 C 0.70816 -0.01341 0.74444 -0.01133 0.78142 -0.00994 C 0.80538 -0.00278 0.83767 -0.00486 0.86076 -0.00393 C 0.91476 -0.00578 0.97378 -0.01179 1.02917 -0.01179 E">
                                      <p:cBhvr>
                                        <p:cTn id="263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265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73472E-018 0.00023 C 0.0849 0.00301 0.10903 0.00509 0.2151 -0.00185 C 0.21875 -0.00208 0.21892 -0.00948 0.2217 -0.01179 C 0.22361 -0.01341 0.22604 -0.01434 0.22813 -0.01572 C 0.23142 -0.01827 0.23455 -0.02127 0.23785 -0.02382 C 0.23941 -0.0252 0.24253 -0.02775 0.24253 -0.02775 C 0.26302 -0.02613 0.27969 -0.02335 0.30104 -0.02197 C 0.30903 -0.01873 0.31649 -0.01734 0.32517 -0.01572 C 0.32899 -0.01434 0.33299 -0.01387 0.33628 -0.01179 C 0.33837 -0.0111 0.33958 -0.00856 0.34132 -0.00786 C 0.35451 -0.00254 0.36979 -0.00116 0.38351 0.00208 C 0.41493 -0.00093 0.44462 -0.00786 0.47569 -0.01387 C 0.4842 -0.02127 0.49479 -0.02289 0.50486 -0.0259 C 0.54861 -0.0252 0.59219 -0.02497 0.63559 -0.02382 C 0.64792 -0.02382 0.65938 -0.01965 0.67135 -0.01804 C 0.70816 -0.01341 0.74444 -0.01133 0.78142 -0.00994 C 0.80538 -0.00278 0.83767 -0.00486 0.86076 -0.00393 C 0.91476 -0.00578 0.97378 -0.01179 1.02917 -0.01179 E">
                                      <p:cBhvr>
                                        <p:cTn id="266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8600"/>
                            </p:stCondLst>
                            <p:childTnLst>
                              <p:par>
                                <p:cTn id="268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73472E-018 0.00023 C 0.0849 0.00301 0.10903 0.00509 0.2151 -0.00185 C 0.21875 -0.00208 0.21892 -0.00948 0.2217 -0.01179 C 0.22361 -0.01341 0.22604 -0.01434 0.22813 -0.01572 C 0.23142 -0.01827 0.23455 -0.02127 0.23785 -0.02382 C 0.23941 -0.0252 0.24253 -0.02775 0.24253 -0.02775 C 0.26302 -0.02613 0.27969 -0.02335 0.30104 -0.02197 C 0.30903 -0.01873 0.31649 -0.01734 0.32517 -0.01572 C 0.32899 -0.01434 0.33299 -0.01387 0.33628 -0.01179 C 0.33837 -0.0111 0.33958 -0.00856 0.34132 -0.00786 C 0.35451 -0.00254 0.36979 -0.00116 0.38351 0.00208 C 0.41493 -0.00093 0.44462 -0.00786 0.47569 -0.01387 C 0.4842 -0.02127 0.49479 -0.02289 0.50486 -0.0259 C 0.54861 -0.0252 0.59219 -0.02497 0.63559 -0.02382 C 0.64792 -0.02382 0.65938 -0.01965 0.67135 -0.01804 C 0.70816 -0.01341 0.74444 -0.01133 0.78142 -0.00994 C 0.80538 -0.00278 0.83767 -0.00486 0.86076 -0.00393 C 0.91476 -0.00578 0.97378 -0.01179 1.02917 -0.01179 E">
                                      <p:cBhvr>
                                        <p:cTn id="26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2100"/>
                            </p:stCondLst>
                            <p:childTnLst>
                              <p:par>
                                <p:cTn id="271" nodeType="after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C 0.03959 0.01757 0.08351 0.00185 0.12535 4.79769E-006 C 0.16528 -0.0111 0.14202 -0.00625 0.21893 -0.00232 C 0.22552 -0.00209 0.22917 0.00393 0.2349 0.00624 C 0.24462 0.00994 0.25521 0.00924 0.26511 0.01248 C 0.29375 0.00901 0.33368 0.00138 0.36025 -0.01711 C 0.37396 -0.01642 0.38785 -0.01619 0.40157 -0.0148 C 0.40643 -0.01434 0.40677 -0.0111 0.41112 -0.00856 C 0.41424 -0.00671 0.42066 -0.0044 0.42066 -0.0044 C 0.43143 0.00578 0.44427 0.00624 0.45712 0.00832 C 0.51789 0.00693 0.57865 0.00416 0.63941 0.00416 C 0.68507 0.00416 0.77622 0.00832 0.77622 0.00832 C 0.87552 0.02011 0.97657 0.01479 1.07622 0.01479 E">
                                      <p:cBhvr>
                                        <p:cTn id="272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90600" y="426960"/>
            <a:ext cx="82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ссмотрим проводимость полупроводников на примере кремния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853920" y="176364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521160" y="160020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2219400" y="278136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808200" y="402444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581280" y="391320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 flipH="1" rot="2954400">
            <a:off x="1301400" y="2185920"/>
            <a:ext cx="1371600" cy="327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 flipH="1" rot="2892000">
            <a:off x="2740680" y="869040"/>
            <a:ext cx="1411200" cy="3451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 flipH="1" rot="18531600">
            <a:off x="2740320" y="2139840"/>
            <a:ext cx="1371600" cy="327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 flipH="1" rot="18531600">
            <a:off x="1196280" y="989280"/>
            <a:ext cx="1458720" cy="3321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219400" y="42721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838080" y="36259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1835280" y="165744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1009800" y="278136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2981160" y="34732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3362400" y="457668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4038480" y="337824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2981160" y="180972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5638680" y="187308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мний –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 валентный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химический элемент. Каждый атом имеет во внешнем электронном слое п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 неспаренных электрон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которые образуют связи с 4 соседними ато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98440" y="5257800"/>
            <a:ext cx="8534520" cy="13341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идно, что в полупроводник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сутствуют свободные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ряженные частицы, следовательно, полупроводник не может проводить электрический ток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так бывает при обычных условиях, при невысоких температ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2 0.00625 C -0.13455 -0.03703 -0.09063 -0.14051 -0.00938 -0.22407 C 0.07118 -0.30694 0.15903 -0.33981 0.18489 -0.29606 C 0.21042 -0.2537 0.16528 -0.15 0.08524 -0.06689 C 0.00382 0.0169 -0.08264 0.04861 -0.11979 -0.00787 E">
                                      <p:cBhvr>
                                        <p:cTn id="33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44 -0.06875 C 0.20121 -0.02153 0.16111 0.08542 0.08246 0.16806 C 0.00398999999999999 0.24977 -0.08438 0.27755 -0.11268 0.22963 C -0.14028 0.18195 -0.09931 0.07616 -0.02136 -0.00625 C 0.05746 -0.08889 0.14444 -0.11551 0.17344 -0.06875 Z">
                                      <p:cBhvr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5-03-31T13:39:1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